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6FF-F064-4700-BD04-E40092598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97FB-1935-4764-ACDF-476E98B93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4DC-A86B-4649-9024-01BB4C40C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9E3D-E33A-4E73-BB81-A8A5ED207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62C-B18D-45EF-92E7-82C2F83AE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2C3D-0786-4920-AB31-662BDCE23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C1E-8312-4EBD-BCDE-17F31EAD2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4EF-639A-4784-81BF-7EE7F6A5A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E624-FAB3-401E-A302-ED1365B02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7DAC-DCE7-40E5-A519-516D625F0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A2C1-BC54-47DF-AB70-531C4480F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883-A484-4270-A412-767DD02F0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CFC6-500E-47C8-BD48-A8900E5E6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D94-F072-4E22-ADA6-73CCFD92A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77E-A850-4696-8FF1-69C442573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8992-5528-4643-B199-A71E3EA15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D9F6-5F3D-408E-9271-E3880E13E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62B-FCAF-4279-84D0-6718FAAF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D79-7343-4D36-A63F-68C4970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F6C-D9EB-4285-8262-4AA02979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769-8B3A-4D62-AECD-C85459CC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390-93BD-4CD4-A92C-94A1AD59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B64-4B14-4476-B01B-FEBDC13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7FA-0036-4964-94C2-F0759274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0B3-D8DF-4ED0-BB88-8FD5233C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950-2C99-4BEB-9876-CEC738FD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93C-4FDC-4F24-9A52-F0B0B1B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85B-62E3-4E1C-9591-59FBF78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CDD-2096-4727-83AE-BD89887C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189-FEC2-4818-A7DD-54456170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00040" y="1143000"/>
            <a:ext cx="7858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parejas, traduce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. Me gustan las matemáticas porque son   interesantes y el profesor es divert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 interesa el francés porque es útil para mi futu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o que la historia es interes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 parece que la biología es bastante abu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cla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230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oscu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476360" y="134136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12000" y="3429000"/>
            <a:ext cx="136656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588000" y="76500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124000" y="4724280"/>
            <a:ext cx="136692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284720" y="227664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11280" y="2997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877080" y="5157720"/>
            <a:ext cx="1366920" cy="93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4356000" y="404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4284720" y="537372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708360" y="3645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877080" y="2060640"/>
            <a:ext cx="1366920" cy="93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00000" y="907920"/>
            <a:ext cx="691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the hai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 el p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has the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ene el p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the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has the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ene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revise colo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vise describing hair and ey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say what your teachers are lik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ce2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e9fa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cc32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36:10Z</dcterms:created>
  <dc:creator>Chris Fuller</dc:creator>
  <dc:description/>
  <dc:language>en-US</dc:language>
  <cp:lastModifiedBy>Chris</cp:lastModifiedBy>
  <dcterms:modified xsi:type="dcterms:W3CDTF">2009-03-30T08:36:28Z</dcterms:modified>
  <cp:revision>6</cp:revision>
  <dc:subject/>
  <dc:title>Slide 1</dc:title>
</cp:coreProperties>
</file>